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9F930-3265-49C0-826B-EC9E221C8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A53CF-7404-4CB7-9D8D-DF0ADF68F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12E66-EEDA-4CDF-9CC2-E639987F4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3E4A8-9695-45C8-832D-1F42F0A8D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9197D-8DF7-4F8B-B881-FDFA378FB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3FAD1-4C33-40FF-AEF0-28BBB13EA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C0421-9BFC-4F88-A594-39E3A0B26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5ACE8-822C-4DE5-855F-B755FF5F9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F2127-19D1-478F-B7E6-CF674F65B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180A2-B211-4E06-BD14-ACBB5362B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2FF36-2287-4C98-B91C-D6B11858E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8441D-FFD0-4120-BC5A-C9D729A58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42F2-1F9A-46BB-8DE3-DAD505089E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Joy Lee’s Career Exploration Project</a:t>
            </a:r>
            <a:endParaRPr b="0" lang="en-US" sz="9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nning 10</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lock D Mr McKill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Income</a:t>
            </a:r>
            <a:endParaRPr b="0" lang="en-US" sz="7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Whats the starting income?</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My starting income as a Entry-Level Athletic Therapist is $23,000 to $40,000 a year.</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Whats the maximum income?</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rapists who Own of a Sports Medicine Clinic or work  professional sports teams can earn the maximum income of $50,000 to $80,000 a year</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Will you be paid by salary or hourly pay?</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y salary, it depends if the therapist is self employed or not.</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ny benefits included in your pay? </a:t>
            </a:r>
            <a:endParaRPr b="0"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 </a:t>
            </a:r>
            <a:r>
              <a:rPr b="0" i="1" lang="en-US" sz="1600" spc="-1" strike="noStrike">
                <a:solidFill>
                  <a:srgbClr val="000000"/>
                </a:solidFill>
                <a:latin typeface="Calibri"/>
              </a:rPr>
              <a:t>N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Skills required</a:t>
            </a:r>
            <a:endParaRPr b="0" lang="en-US" sz="7200" spc="-1" strike="noStrike">
              <a:solidFill>
                <a:srgbClr val="000000"/>
              </a:solidFill>
              <a:latin typeface="Arial"/>
            </a:endParaRPr>
          </a:p>
        </p:txBody>
      </p:sp>
      <p:sp>
        <p:nvSpPr>
          <p:cNvPr id="6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skills required for job?</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dvanced skills in athletic therapy including field assessment and injury treatment, and clinical assessment and rehabilitation for all types of injur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trepreneurial business skills to help you establish a pract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Research skills to ensure you always stay current in the fiel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certificates needed?</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In order to become a Certified Athletic Therapist, an individual must complete an academic program. They must then pass a certification exam with the minimum grade of 70%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ertified Athletic therapists are also required to have a CPR certification at the level of a health care practitioner.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skills are needed to advance higher in your field?</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dvanced skills in athletic therapy including field assessment and injury treatment, and clinical assessment and rehabilitation for all types of injur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trepreneurial business skills to help you establish a pract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Research skills to ensure you always stay current in the fiel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hat tasks would you do when working this job? (4 examples)</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ssisting physicians with patients who have sports-related injur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ook appoint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udget for the office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manage other staff or students working with the therap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dwardian Script ITC"/>
              </a:rPr>
              <a:t>Working environment &amp; conditions</a:t>
            </a:r>
            <a:endParaRPr b="0" lang="en-US" sz="6000" spc="-1" strike="noStrike">
              <a:solidFill>
                <a:srgbClr val="000000"/>
              </a:solidFill>
              <a:latin typeface="Arial"/>
            </a:endParaRPr>
          </a:p>
        </p:txBody>
      </p:sp>
      <p:sp>
        <p:nvSpPr>
          <p:cNvPr id="64"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Where do you work?</a:t>
            </a:r>
            <a:endParaRPr b="0" lang="en-US" sz="24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thletic therapists working in office settings are usually required to do some administrative work. This may include booking appointments, budgeting for the office, and managing other staff or students working with the therapist. </a:t>
            </a:r>
            <a:br>
              <a:rPr sz="1600"/>
            </a:br>
            <a:br>
              <a:rPr sz="1600"/>
            </a:br>
            <a:r>
              <a:rPr b="0" i="1" lang="en-US" sz="1600" spc="-1" strike="noStrike">
                <a:solidFill>
                  <a:srgbClr val="000000"/>
                </a:solidFill>
                <a:latin typeface="Calibri"/>
              </a:rPr>
              <a:t>Other athletic therapists work in hospitals, assisting physicians with patients who have sports-related injuries. They may also work in universities, fitness centres, or with other health care professionals (such as chiropractors or physiotherapists). Established therapists may have their own independent practice.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ny hazards?</a:t>
            </a:r>
            <a:endParaRPr b="0" lang="en-US" sz="2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re are electric shock hazards from High frequency physical therapy equipment </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ny safety/protective equipment needed?</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ersonal protective equipment such as gloves are needed.</a:t>
            </a:r>
            <a:endParaRPr b="0" lang="en-US" sz="1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Would you use any machines/equipment?</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i="1" lang="en-US" sz="1400" spc="-1" strike="noStrike">
                <a:solidFill>
                  <a:srgbClr val="000000"/>
                </a:solidFill>
                <a:latin typeface="Calibri"/>
              </a:rPr>
              <a:t>Physical Therapy Equipment and computers are used for a physical therap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Job Outlook</a:t>
            </a:r>
            <a:endParaRPr b="0" lang="en-US" sz="7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Is your career field growing or declining in the number of workers?</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employment growth rate will likely be above average because of ongoing trends of a growing and aging</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opulation that requires more health care, Also there would be new technologies that create new treatment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d changes in the way governments provide health care. </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Whats the unemployment rate for your career field?</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2% for this caree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do experts predict in the future for the amount of jobs in your career?</a:t>
            </a:r>
            <a:endParaRPr b="0" lang="en-US" sz="16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retirement rate will likely be below average </a:t>
            </a:r>
            <a:endParaRPr b="0" lang="en-US" sz="14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number of retiring workers should contribute to job openings.</a:t>
            </a:r>
            <a:endParaRPr b="0" lang="en-US" sz="14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number of job seekers will likely exceed the number of job openings. This will not have an impact on the work prospects.</a:t>
            </a:r>
            <a:br>
              <a:rPr sz="1400"/>
            </a:br>
            <a:r>
              <a:rPr b="0" i="1" lang="en-US" sz="1400" spc="-1" strike="noStrike">
                <a:solidFill>
                  <a:srgbClr val="000000"/>
                </a:solidFill>
                <a:latin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Post-Secondary Training</a:t>
            </a:r>
            <a:endParaRPr b="0" lang="en-US" sz="7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rPr>
              <a:t>1-What kind of Post Secondary training is need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a bachelor's degree in sports studies or exercise science or a college program in sports injur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management.</a:t>
            </a:r>
            <a:r>
              <a:rPr b="0" i="1" lang="en-CA" sz="1400" spc="-1" strike="noStrike">
                <a:solidFill>
                  <a:srgbClr val="000000"/>
                </a:solidFill>
                <a:latin typeface="Arial"/>
              </a:rPr>
              <a:t> </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2-How long will your Post Secondary Training tak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6 years</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3-Where can you take your Post Secondary Training?</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Camosun College for an undergraduate degree in athletic therap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SFU for an undergraduate, masters, and doctoral degree in kinesiology and exercise sci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High School Requirements</a:t>
            </a:r>
            <a:endParaRPr b="0" lang="en-US" sz="7200" spc="-1" strike="noStrike">
              <a:solidFill>
                <a:srgbClr val="000000"/>
              </a:solidFill>
              <a:latin typeface="Arial"/>
            </a:endParaRPr>
          </a:p>
        </p:txBody>
      </p:sp>
      <p:sp>
        <p:nvSpPr>
          <p:cNvPr id="70"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What High school courses are needed for your career?</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helpful High School Courses would be:</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glish</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iology</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hysics</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glish</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ealth and Physical education</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alculus</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hemistry</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mputer courses</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Is there a GPA requirement?</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 minimum </a:t>
            </a:r>
            <a:r>
              <a:rPr b="1" i="1" lang="en-US" sz="1400" spc="-1" strike="noStrike">
                <a:solidFill>
                  <a:srgbClr val="000000"/>
                </a:solidFill>
                <a:latin typeface="Calibri"/>
              </a:rPr>
              <a:t>GPA</a:t>
            </a:r>
            <a:r>
              <a:rPr b="0" i="1" lang="en-US" sz="1400" spc="-1" strike="noStrike">
                <a:solidFill>
                  <a:srgbClr val="000000"/>
                </a:solidFill>
                <a:latin typeface="Calibri"/>
              </a:rPr>
              <a:t> of 3.00 over the most recent course work to a maximum of five is required.</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What type of volunteer activities are needed or will help you pursue this career?</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Volunteer in an athletic environment will help you get the feel of becoming an athletic therapist.</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ny other types of activities while in High school that will enhance your career goals?</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oining a sport will give basic knowledge that will help you in your career in the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er choice #1</a:t>
            </a:r>
            <a:endParaRPr b="0" lang="en-US" sz="4400" spc="-1" strike="noStrike">
              <a:solidFill>
                <a:srgbClr val="000000"/>
              </a:solidFill>
              <a:latin typeface="Arial"/>
            </a:endParaRPr>
          </a:p>
        </p:txBody>
      </p:sp>
      <p:sp>
        <p:nvSpPr>
          <p:cNvPr id="44" name="PlaceHolder 2"/>
          <p:cNvSpPr>
            <a:spLocks noGrp="1"/>
          </p:cNvSpPr>
          <p:nvPr>
            <p:ph/>
          </p:nvPr>
        </p:nvSpPr>
        <p:spPr>
          <a:xfrm>
            <a:off x="468360" y="3500280"/>
            <a:ext cx="8229600" cy="1617840"/>
          </a:xfrm>
          <a:prstGeom prst="rect">
            <a:avLst/>
          </a:prstGeom>
          <a:noFill/>
          <a:ln w="0">
            <a:noFill/>
          </a:ln>
        </p:spPr>
        <p:txBody>
          <a:bodyPr lIns="90000" rIns="90000" tIns="46800" bIns="46800" anchor="t">
            <a:normAutofit/>
          </a:bodyPr>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Kinesiologis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Income</a:t>
            </a:r>
            <a:endParaRPr b="0" lang="en-US" sz="7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Whats the starting incom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starting income as an Entry-Level Kinesiologist is $25,000 to $40,000 a yea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Whats the maximum incom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maximum income as a self-employed consultant or Business Owner is $50,000 to $100,000 a yea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ill you be paid by salary or hourly pay?</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y salary, but it depends on the employe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Any benefits included in your pay? </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employed on a full-time basis can receive dental coverage, paid sick days, and vacation time. While Self-employ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have to provide their own benefits.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Skills required</a:t>
            </a:r>
            <a:endParaRPr b="0" lang="en-US" sz="7200" spc="-1" strike="noStrike">
              <a:solidFill>
                <a:srgbClr val="000000"/>
              </a:solidFill>
              <a:latin typeface="Arial"/>
            </a:endParaRPr>
          </a:p>
        </p:txBody>
      </p:sp>
      <p:sp>
        <p:nvSpPr>
          <p:cNvPr id="48"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Skills required for job?</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elf-confidence combined with leadership and critical thinking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oral and written communication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atience and flexibility in their relationships with oth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 interest in keeping up to date with new technology</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eamwork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 interest in scientific research.</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certificates needed?</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provinces have kinesiology associations. Membership in these associations is not compulsory, but it m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e preferred by employers. Also, it’s a good idea to get some training in CPR and first aid.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skills are needed to advance higher in your field?</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pplied Counselling Skills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hat tasks would you do when working this job? (4 examples)</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reat people and improve their performance in sports, in recreation, and at work.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ign programs and routines to prevent, manage, and rehabilitate injur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eep records of client’s treatment plans, progress made, and recommendations for further treatment and discharge.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how clients how to manage their injuries and disabiliti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dwardian Script ITC"/>
              </a:rPr>
              <a:t>Working environment &amp; conditions</a:t>
            </a:r>
            <a:endParaRPr b="0" lang="en-US" sz="6000" spc="-1" strike="noStrike">
              <a:solidFill>
                <a:srgbClr val="000000"/>
              </a:solidFill>
              <a:latin typeface="Arial"/>
            </a:endParaRPr>
          </a:p>
        </p:txBody>
      </p:sp>
      <p:sp>
        <p:nvSpPr>
          <p:cNvPr id="50"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Where do you work?</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inical kinesiologists work in private clinics, hospitals, and research facilit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Vocational rehabilitation kinesiologists work for workers compensation boards as caseworkers, ergonomists, physical assessment and rehabilitation specialists, and consult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work for insurance companies as compensation advisors. Many work in other industries as work site analysts, and occupational health and safety advisor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also work for universities in research areas, and as undergraduate advisors and teaching assist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Others may work for fitness clubs, pharmaceutical sales companies, and medical rehabilitative products companies.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hazards?</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need to be able to lift and manoeuvre clients. Reaching, crouching, and lifting are required wh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etting up equipment and demonstrating treatment programs. Therefore, a kinesiologist must be in goo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hysical condition to avoid any hazards.</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ny safety/protective equipment needed?</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No. Not specifically.</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ould you use any machines/equipmen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i="1" lang="en-US" sz="1400" spc="-1" strike="noStrike">
                <a:solidFill>
                  <a:srgbClr val="000000"/>
                </a:solidFill>
                <a:latin typeface="Calibri"/>
              </a:rPr>
              <a:t>Kinesiologists employed in laboratory research and ergonomic design usually work long hours in front of the compute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Job Outlook</a:t>
            </a:r>
            <a:endParaRPr b="0" lang="en-US" sz="7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Is your career field growing or declining in the number of workers?</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s growing for the demand for kinesiologists is related to the aging population and increased attention to the needs of disabled persons and accident victims. Opportunities will be better in private practices outside of the institutional health care setting.</a:t>
            </a:r>
            <a:r>
              <a:rPr b="0" lang="en-US" sz="1200" spc="-1" strike="noStrike">
                <a:solidFill>
                  <a:srgbClr val="000000"/>
                </a:solidFill>
                <a:latin typeface="Calibri"/>
              </a:rPr>
              <a:t>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Whats the unemployment rate for your career field?</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unemployment rate (3%) is close to the 2004 average (7%).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at do experts predict in the future for the amount of jobs in your career?</a:t>
            </a:r>
            <a:endParaRPr b="0" lang="en-US" sz="14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employment growth rate will likely be close to the average. </a:t>
            </a:r>
            <a:endParaRPr b="0" lang="en-US" sz="12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200" spc="-1" strike="noStrike">
                <a:solidFill>
                  <a:srgbClr val="000000"/>
                </a:solidFill>
                <a:latin typeface="Calibri"/>
              </a:rPr>
              <a:t>The retirement rate will likely be above average and the number of retiring workers should contribute to job openings. </a:t>
            </a:r>
            <a:endParaRPr b="0" lang="en-US" sz="12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number of job seekers will likely exceed the number of job opening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Post-Secondary Training</a:t>
            </a:r>
            <a:endParaRPr b="0" lang="en-US" sz="7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What kind of Post Secondary training is needed?</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 University Degree in Kinesiology, Human Kinetics, or other health-science-related field or Master’s Degree in Physical Education.</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How long will your Post Secondary Training take?</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4-7 years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ere can you take your Post Secondary Training?</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imon Fraser University and the University of British Columbia offers undergraduate, doctoral, and masters degree progr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High School Requirements</a:t>
            </a:r>
            <a:endParaRPr b="0" lang="en-US" sz="7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What High school courses are needed for your career?</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me helpful High School Courses would be:</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Busines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glish</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th (Calculus and Algebra &amp;Geometry)</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bability &amp; Statistic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ciences (Physics, Chemistry, Biology)</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cial Studie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ealth &amp; Physical Education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mputer related courses</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Is there a GPA requirement?</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Athletic Training)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Fitness, Nutrition, Health)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Physical Education)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Pre-physical Therapy) (BS) (2.70) </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at type of volunteer activities are needed or will help you pursue this career?</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volunteer work at a clinic or hospital will give you a feel for the kinesiologist’s working environment. </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ny other types of activities while in High school that will enhance your career goals?</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Joining a sports team will help give basic knowledge of what this career is about, Also several science and math courses can help with the components of this care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er choice #2</a:t>
            </a:r>
            <a:endParaRPr b="0" lang="en-US" sz="4400" spc="-1" strike="noStrike">
              <a:solidFill>
                <a:srgbClr val="000000"/>
              </a:solidFill>
              <a:latin typeface="Arial"/>
            </a:endParaRPr>
          </a:p>
        </p:txBody>
      </p:sp>
      <p:sp>
        <p:nvSpPr>
          <p:cNvPr id="58" name="PlaceHolder 2"/>
          <p:cNvSpPr>
            <a:spLocks noGrp="1"/>
          </p:cNvSpPr>
          <p:nvPr>
            <p:ph/>
          </p:nvPr>
        </p:nvSpPr>
        <p:spPr>
          <a:xfrm>
            <a:off x="468360" y="3500280"/>
            <a:ext cx="8229600" cy="1617840"/>
          </a:xfrm>
          <a:prstGeom prst="rect">
            <a:avLst/>
          </a:prstGeom>
          <a:noFill/>
          <a:ln w="0">
            <a:noFill/>
          </a:ln>
        </p:spPr>
        <p:txBody>
          <a:bodyPr lIns="90000" rIns="90000" tIns="46800" bIns="46800" anchor="t">
            <a:normAutofit fontScale="72000"/>
          </a:bodyPr>
          <a:p>
            <a:pPr marL="24696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Athletic Therapis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8:08:47Z</dcterms:created>
  <dc:creator>kibbeum.lee</dc:creator>
  <dc:description/>
  <dc:language>en-US</dc:language>
  <cp:lastModifiedBy>kibbeum.lee</cp:lastModifiedBy>
  <dcterms:modified xsi:type="dcterms:W3CDTF">2010-03-04T17:09:43Z</dcterms:modified>
  <cp:revision>6</cp:revision>
  <dc:subject/>
  <dc:title>Joy Lee’s Career Exploration Project</dc:title>
</cp:coreProperties>
</file>